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6E1-B86B-4893-9B81-35059B01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B70-5064-4F26-8921-B60808A5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597-C06A-4B20-8840-DDC9851F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8BD-FD1E-4448-B3D6-9A8661BA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6BBD-D2FB-42AF-8C4C-378F2FA4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79A4-8703-4F56-B92F-ACBD01F3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4D4C-3B2D-4FF0-BC8B-3765F24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A6C5-0CE1-4274-AD16-9934ECC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86ED-71D3-4CB0-9BC2-67A1D34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8F4-A8A6-439C-9196-991A03D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8BEA-4FE9-43D6-9080-26A6347F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E0F-2B9B-44C8-8B05-B9D8C7FB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A86-D995-4037-9375-F984AEC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AD47-7F55-412F-9016-8B70907A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7AB-697F-420D-8AB1-3C6C6E1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027-0A46-4062-BE25-8A54BD7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77E-8234-482A-BFA3-3BD3CE21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40C-C4AC-4BD4-82E6-66A6447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24-4601-4CE5-8EAA-DD2C9449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43-4B9F-43DE-8B66-30B4DD42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EAF-E71C-4E0B-8680-0589D35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EB4-AA36-4303-8663-F0BC0E6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1ED-099C-4F68-B94E-1D13511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B59-5D6D-4CF2-ADED-073CDD2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1BDD-0819-4CA7-913E-F9D47D80E9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711-C272-4996-9D82-236A214ED7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 И СПОРТА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БУ КК «РЕГИОНАЛЬНЫЙ ЦЕНТР СПОРТИВНОЙ ПОДГОТОВКИ ПО ЛЕГКОЙ АТЛЕТИКЕ»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-15.01.2017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В. Смоле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Л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Бурм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А. Рыженк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2</cp:lastModifiedBy>
  <cp:lastPrinted>2017-01-14T10:43:08Z</cp:lastPrinted>
  <dcterms:modified xsi:type="dcterms:W3CDTF">2017-01-14T13:59:50Z</dcterms:modified>
  <cp:revision>5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